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move the slide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8B983-A915-4237-A61F-EBE6BC7624A3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7C4A8-552E-4490-BF72-0C02EAEAFE97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1E260-5280-46F6-B8CA-CEF87528684B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9BAA-AA39-4414-A54B-8B4A47C87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3F33-9822-44A2-A2E8-410DE1094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E28C55-7E8C-4551-9456-8085F4519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A2D0AD-9F42-482E-8B24-72FF0B620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B8DC9F-B5E0-43DC-B129-6AE2B755C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89FD04-2C72-4E19-88D5-98166EEB8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2C7E27-3CB4-4DFB-BDCD-6D55DBE10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0F920A-472E-4259-918D-CCC3B73C5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128EB4-8075-4740-B376-432764C2E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C4C47F-659A-4D50-8AE3-327FCA61F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E3BBD8-0E83-48C2-AF70-5215A8995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A4FD68-4D42-4E58-B36B-2D9DB22AB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7B34-92A5-435D-9726-D6987FFBF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E6A1F6-2006-40FA-ABF6-29DCC4B77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AB2672-FCA1-42FD-8629-32D98621F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847162-4562-413B-AA58-CDA654646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0E1F72-D252-4CEC-A896-59230B4E7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6050FA-5605-47FA-B069-913DEDD60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860876-D0CF-4B52-A3FE-A5E6DB375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F0F77F-7002-43C7-96BB-F9535EA31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BFB1C5-8BED-451B-A22C-44E03785A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24CB2F-C048-45B3-8A37-EB59378BB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F92F90-E2A6-4F50-BF2B-7D118BF03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28CC-EE4B-4303-A7AA-418F4AB2E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592581-98ED-49F8-991F-BD74AC299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A892ED-A79B-4E91-957A-E8F2D77C3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9370C3-766A-4167-9F73-55D3512EE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B80A0A-86B7-4910-A9A3-E3C6E1145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4E3B54-24B8-4C74-8997-490934B48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16AAF1-D54E-4E5B-8E86-896CAE2D7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2C9A34-021C-4502-86CA-6C2E78132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2749A5-D173-48B1-AE01-E945414EA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8A24F4-BF34-4D6B-9341-339816CB5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BAB4CD-E3B4-440D-B64E-10EAE5B31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CC6DE-355C-4544-9F07-34184B238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BA151D-3F26-430F-9839-AB407366D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AC3FCC-00E6-41A4-A8E4-3A2D1F6FE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7605D8-93D2-4E85-9E55-ADB0FF45C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B9CB5-AE31-4FBD-A4EE-25C13723F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20A60-42F3-4573-AD47-0C7B7182A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F5E5B-E553-4EBE-A613-5890E904B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4A488-66B9-4014-AC88-76E9AF2CF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64E7B-A131-4F42-BE54-3BF17DDEF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1E5EA-9491-4991-9ED1-BB94846DA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F3EF-55C1-4046-995A-6E10EED2C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549D3-D07F-4FA7-8BB6-7DFBDCFFE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21F95-3CE4-44D3-BEE7-BB787160F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3CE5B-4B1A-4D03-BAFC-9C4D6C533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630B3-96CD-40FA-98B6-C825C636A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536BC-E4F7-4766-B9D1-211826CC7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DE8D14-2FF1-4226-B6A6-901EEB299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0AEFF3-78DD-4CF9-A567-FF965F4DC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F08140-CD87-4E94-82E0-72E077B37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CD4504-8686-4686-BB0F-75678E186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62A6EC-F0C5-4BBA-B39B-397B3A7A5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5271-93A8-488F-9337-173A67D87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FD5092-0449-4DC5-B020-F49F35DC1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54CC67-B683-4462-9E24-1B04FCB4A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16C80B-C80F-4E74-A3B2-55D3AA026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9C1A97-9A61-49A3-90B4-C40DAFC9A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FD10F0-4C09-4ED2-AD5E-85DFDBEE7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408760-0C20-497D-88F9-1AE121074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27481F-1A35-4CD9-9A82-AD2B17BA7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3B4156-2985-4429-84FC-4F6DF0708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4E764D-04F4-4C7B-92FB-4555533E9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732D26-957F-4A37-A864-00FE6391A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4FBE-189B-4EAF-A0FC-24C4D68BD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EF29DB-B290-49BD-BC1A-E4388DF09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57639A-D9F8-47FD-BD85-7ED65EB77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46F2A6-0E12-495D-AE3E-3A06C133D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41EB94-0DB9-4536-82D2-EBC747DA6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67C383-7723-4F30-9819-F8FD8FC68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1A9874-99F3-496E-8314-0EEA76194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47F2C0-3BEB-4AF9-9636-2E5CCD88B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D27892-1B0C-458D-AEA6-CC7271E54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3EF603-D448-4A37-9AEC-042329ADF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497CB5-00B2-4500-8C8E-D5EDDD038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219F-0316-421E-B890-593B152B8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58DAAE-16A1-4345-B9B3-36EE9C2F3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CEF6C8-B22A-444B-BBB2-39BAF553E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041E5B-AD85-4FE7-B03D-6EC4B844E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E88E51-00B2-47E2-BC9A-5FA73C7DD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02CDDA-50EC-4719-B92F-5A2C67F35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03F2B6-F434-4053-8B58-89274F8D7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461577-8A82-43EE-9F02-B2FAB8E55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170E49-F071-4F66-AEAE-456A71B77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255236-076D-40C1-BC8E-2C9ECE15A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2FCDEB-CA1F-444F-A0D0-957DCD27C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4FA6-DABF-4146-8477-FA6E71596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938000-83D3-4AFD-9642-DFE8E1B83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3DA6BD-BC3E-46C1-99BD-86E6AF4FF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FCDCE5-24FB-4AE5-B2AF-DC42FE6CF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0BE7D0-5FCC-4E7E-B16E-6430245F3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BDAC06-79FA-4C46-A776-B5DA1AD73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28065B-9E9C-46A6-AF5B-089FD4F87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E971B6-6DD2-4AA8-9AB2-D3538B573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D892D4-670A-443B-86FF-AA7A99EC9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6DBD81-48AF-46A7-95A4-4AA3FB13E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70CC08-6FFC-4154-A36D-927659176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867B-9117-4799-A1F9-933BAD57F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8EB9E9-2F57-480B-A87D-54F93E068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7C9855-0B3D-4812-8E18-80D4ED91E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0FD20F-A3B8-4236-8922-887973530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03A87B-E7FA-470B-BB46-96E69213C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E498DE-EEB1-4446-A746-E8B9A5173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9CA069-8EFA-4697-AD14-D5A9F37C5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4966CE-4E63-4571-9B2A-1404EDEC2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9FD353-833A-495F-965C-8A790F990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A053EE-F54E-4CAC-8C51-8331A06E6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6375DA-024B-41F6-8604-385E36836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DC57-C397-4022-B4C3-60E87DA12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B361BF-47E1-4767-89BF-C0E73069E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420695-6618-49A1-918C-6081B858A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04359A-F552-4117-92E6-6D44DAAD8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72AFE2-9F2C-4958-8975-8D2BD5291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A15FE5-AE84-4246-8884-DBAB8EE24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991198-2EC5-4520-8587-9EE35E842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D206A0-5AC1-4345-96E6-0A4A9BA8A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D61A4D-6A6A-4108-B0B3-4969C241D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B8DEF3-09E6-4158-A1B7-31BCF7EB1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93E985-0D23-45C7-914A-5700AA8B2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65C9-42BE-4086-8C26-FDE26748E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A2D7B6-D0EB-4596-8AF1-FCA6BDE71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916E81-B8B5-4D0E-B5BB-C953E170F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311D06-5B63-4F55-B5A8-DA874ACC2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D3B5F9-BF14-4B13-86B6-07F3020A2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50B4F9-1ADA-4D1E-99E3-E8C41199C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23D947-6FBA-46B1-9BB7-C44454DA0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E83BB6-7C6C-40BD-ADA0-7AB94483B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7865DC-F5EE-4EA1-95E4-EF2918A86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560B98-23C1-4154-BE83-38D9032A1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246448-2F69-42A7-B526-EC8027EF5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0B876-6294-4D03-B54F-0F179872CEAD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5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dt" idx="28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 type="ftr" idx="29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 type="sldNum" idx="30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EDC51-7571-4518-BB0F-2BFF1A5B48C2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8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9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dt" idx="31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ftr" idx="32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 type="sldNum" idx="33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41165-C37A-4345-93D0-C6BF13DB3904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" name="矩形 8"/>
          <p:cNvSpPr/>
          <p:nvPr/>
        </p:nvSpPr>
        <p:spPr>
          <a:xfrm>
            <a:off x="685800" y="3197160"/>
            <a:ext cx="77724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03B07-F05D-4F6D-9397-351856B79E31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8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9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7308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5330880" y="6400440"/>
            <a:ext cx="373392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FBA66-6C36-4F23-A504-AB95D3CA8A60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2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3" name="矩形 8"/>
          <p:cNvSpPr/>
          <p:nvPr/>
        </p:nvSpPr>
        <p:spPr>
          <a:xfrm>
            <a:off x="685800" y="3143160"/>
            <a:ext cx="77724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0E2BD-B8A7-4F8E-A9DB-946739E38DE0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6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7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ADDFB-606B-424A-BAD1-2FEAEB165B9A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0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1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C5EF2-35AA-456B-8738-9243B16B076E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4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5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dt" idx="19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ftr" idx="20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sldNum" idx="21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8B0AB-3071-4A01-ADB9-636DE76099D4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8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3D16F-ACC3-492F-AA97-94B29A0482D2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1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2" name="矩形 8"/>
          <p:cNvSpPr/>
          <p:nvPr/>
        </p:nvSpPr>
        <p:spPr>
          <a:xfrm>
            <a:off x="2786040" y="1054080"/>
            <a:ext cx="59040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ftr" idx="26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sldNum" idx="27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EB633-311D-42D2-BCCA-D55EFF908E8A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4000" y="2852640"/>
            <a:ext cx="7848360" cy="139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6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宋体"/>
                <a:ea typeface="宋体"/>
              </a:rPr>
              <a:t>第十章 纤毛虫</a:t>
            </a:r>
            <a:br>
              <a:rPr sz="4800"/>
            </a:br>
            <a:r>
              <a:rPr b="1" lang="en-US" sz="4800" spc="-1" strike="noStrike">
                <a:solidFill>
                  <a:srgbClr val="0000cc"/>
                </a:solidFill>
                <a:latin typeface="宋体"/>
                <a:ea typeface="宋体"/>
              </a:rPr>
              <a:t>Ciliate</a:t>
            </a:r>
            <a:br>
              <a:rPr sz="4800"/>
            </a:br>
            <a:br>
              <a:rPr sz="4800"/>
            </a:br>
            <a:r>
              <a:rPr b="1" lang="zh-CN" sz="4800" spc="-1" strike="noStrike">
                <a:solidFill>
                  <a:srgbClr val="0000cc"/>
                </a:solidFill>
                <a:latin typeface="宋体"/>
                <a:ea typeface="宋体"/>
              </a:rPr>
              <a:t>结肠小袋纤毛虫</a:t>
            </a:r>
            <a:br>
              <a:rPr sz="4800"/>
            </a:br>
            <a:r>
              <a:rPr b="1" i="1" lang="en-US" sz="4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Balantidium coli</a:t>
            </a:r>
            <a:endParaRPr b="0" lang="en-US" sz="48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1403280" y="5300640"/>
            <a:ext cx="6400800" cy="7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贾默稚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0" name="图片 5" descr=""/>
          <p:cNvPicPr/>
          <p:nvPr/>
        </p:nvPicPr>
        <p:blipFill>
          <a:blip r:embed="rId2"/>
          <a:stretch/>
        </p:blipFill>
        <p:spPr>
          <a:xfrm>
            <a:off x="1835280" y="3976560"/>
            <a:ext cx="3201840" cy="2881440"/>
          </a:xfrm>
          <a:prstGeom prst="rect">
            <a:avLst/>
          </a:prstGeom>
          <a:ln w="0">
            <a:noFill/>
          </a:ln>
        </p:spPr>
      </p:pic>
      <p:pic>
        <p:nvPicPr>
          <p:cNvPr id="491" name="图片 4" descr=""/>
          <p:cNvPicPr/>
          <p:nvPr/>
        </p:nvPicPr>
        <p:blipFill>
          <a:blip r:embed="rId3"/>
          <a:stretch/>
        </p:blipFill>
        <p:spPr>
          <a:xfrm>
            <a:off x="5867280" y="2781360"/>
            <a:ext cx="3043440" cy="3024000"/>
          </a:xfrm>
          <a:prstGeom prst="rect">
            <a:avLst/>
          </a:prstGeom>
          <a:ln w="0">
            <a:noFill/>
          </a:ln>
        </p:spPr>
      </p:pic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34596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形态</a:t>
            </a:r>
            <a:endParaRPr b="0" lang="en-US" sz="32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468360" y="12682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滋养体：椭圆形，无色透明或淡灰绿色，全身披有纤毛。有胞口、胞肛结构。虫体中、后部各有一伸缩泡。染色标本可见大、小核各一个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4" name="矩形 2"/>
          <p:cNvSpPr/>
          <p:nvPr/>
        </p:nvSpPr>
        <p:spPr>
          <a:xfrm>
            <a:off x="324000" y="3068640"/>
            <a:ext cx="79930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包囊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球形或近球形，淡黄或淡绿色，囊壁厚，染色后可见明显的大核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2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内容占位符 2" descr=""/>
          <p:cNvPicPr/>
          <p:nvPr/>
        </p:nvPicPr>
        <p:blipFill>
          <a:blip r:embed="rId2"/>
          <a:stretch/>
        </p:blipFill>
        <p:spPr>
          <a:xfrm>
            <a:off x="1990800" y="1262160"/>
            <a:ext cx="5533920" cy="502452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生活史</a:t>
            </a:r>
            <a:r>
              <a:rPr b="1" lang="zh-CN" sz="3200" spc="-1" strike="noStrike">
                <a:solidFill>
                  <a:srgbClr val="2f2f2f"/>
                </a:solidFill>
                <a:latin typeface="宋体"/>
                <a:ea typeface="宋体"/>
              </a:rPr>
              <a:t> </a:t>
            </a:r>
            <a:endParaRPr b="0" lang="en-US" sz="3200" spc="-1" strike="noStrike">
              <a:solidFill>
                <a:srgbClr val="2f2f2f"/>
              </a:solidFill>
              <a:latin typeface="Franklin Gothic Medium"/>
            </a:endParaRPr>
          </a:p>
        </p:txBody>
      </p:sp>
      <p:grpSp>
        <p:nvGrpSpPr>
          <p:cNvPr id="497" name="组合 5"/>
          <p:cNvGrpSpPr/>
          <p:nvPr/>
        </p:nvGrpSpPr>
        <p:grpSpPr>
          <a:xfrm>
            <a:off x="2241720" y="1346040"/>
            <a:ext cx="5287680" cy="4365720"/>
            <a:chOff x="2241720" y="1346040"/>
            <a:chExt cx="5287680" cy="4365720"/>
          </a:xfrm>
        </p:grpSpPr>
        <p:sp>
          <p:nvSpPr>
            <p:cNvPr id="498" name="TextBox 3"/>
            <p:cNvSpPr/>
            <p:nvPr/>
          </p:nvSpPr>
          <p:spPr>
            <a:xfrm>
              <a:off x="3852000" y="3285000"/>
              <a:ext cx="10800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宋体"/>
                </a:rPr>
                <a:t>人体内</a:t>
              </a: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499" name="TextBox 6"/>
            <p:cNvSpPr/>
            <p:nvPr/>
          </p:nvSpPr>
          <p:spPr>
            <a:xfrm>
              <a:off x="2241720" y="3295800"/>
              <a:ext cx="10800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cc"/>
                  </a:solidFill>
                  <a:latin typeface="宋体"/>
                </a:rPr>
                <a:t>外环境</a:t>
              </a: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500" name="TextBox 7"/>
            <p:cNvSpPr/>
            <p:nvPr/>
          </p:nvSpPr>
          <p:spPr>
            <a:xfrm>
              <a:off x="3973680" y="1699920"/>
              <a:ext cx="10800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脱囊</a:t>
              </a: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501" name="TextBox 8"/>
            <p:cNvSpPr/>
            <p:nvPr/>
          </p:nvSpPr>
          <p:spPr>
            <a:xfrm>
              <a:off x="6372000" y="2915280"/>
              <a:ext cx="1080000" cy="36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502" name="TextBox 9"/>
            <p:cNvSpPr/>
            <p:nvPr/>
          </p:nvSpPr>
          <p:spPr>
            <a:xfrm>
              <a:off x="6197760" y="4016160"/>
              <a:ext cx="133164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宋体"/>
                </a:rPr>
                <a:t>结肠内</a:t>
              </a: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宋体"/>
                </a:rPr>
                <a:t>定居</a:t>
              </a: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503" name="TextBox 10"/>
            <p:cNvSpPr/>
            <p:nvPr/>
          </p:nvSpPr>
          <p:spPr>
            <a:xfrm>
              <a:off x="2700000" y="1346040"/>
              <a:ext cx="14482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0000"/>
                  </a:solidFill>
                  <a:latin typeface="宋体"/>
                </a:rPr>
                <a:t>感染期包囊</a:t>
              </a: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504" name="矩形 4"/>
            <p:cNvSpPr/>
            <p:nvPr/>
          </p:nvSpPr>
          <p:spPr>
            <a:xfrm>
              <a:off x="3973680" y="5229360"/>
              <a:ext cx="66960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505" name="矩形 12"/>
            <p:cNvSpPr/>
            <p:nvPr/>
          </p:nvSpPr>
          <p:spPr>
            <a:xfrm>
              <a:off x="2268360" y="5351400"/>
              <a:ext cx="66960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 txBox="1"/>
          <p:nvPr/>
        </p:nvSpPr>
        <p:spPr>
          <a:xfrm>
            <a:off x="1187280" y="691920"/>
            <a:ext cx="7777440" cy="46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63320" indent="-46332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生活史过程：包囊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滋养体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包囊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463320" indent="-46332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寄生部位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结肠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463320" indent="-46332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生殖方式：以二分裂为主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463320" indent="-46332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传染源：猪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463320" indent="-46332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感染阶段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感染期包囊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463320" indent="-4633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6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感染方式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经口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三、致病与诊断</a:t>
            </a:r>
            <a:r>
              <a:rPr b="1" lang="zh-CN" sz="3200" spc="-1" strike="noStrike">
                <a:solidFill>
                  <a:srgbClr val="2f2f2f"/>
                </a:solidFill>
                <a:latin typeface="宋体"/>
                <a:ea typeface="宋体"/>
              </a:rPr>
              <a:t> </a:t>
            </a:r>
            <a:endParaRPr b="0" lang="en-US" sz="32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457200" y="159984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致病：滋养体分泌透明质酸酶并借助机械运动侵入结肠黏膜及黏膜下层，引起溃疡（似溶组织内阿米巴痢疾）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可能是一种机会致病原虫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表现：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无症状型、急性型和慢性型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无症状型：即初期潜伏型。在粪便中可找到虫体，但无相关症状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矩形 2"/>
          <p:cNvSpPr/>
          <p:nvPr/>
        </p:nvSpPr>
        <p:spPr>
          <a:xfrm>
            <a:off x="468360" y="3429000"/>
            <a:ext cx="8280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诊断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直接涂片查滋养体，乙状结肠镜取黏膜组织活检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0" name="矩形 3"/>
          <p:cNvSpPr/>
          <p:nvPr/>
        </p:nvSpPr>
        <p:spPr>
          <a:xfrm>
            <a:off x="382680" y="714240"/>
            <a:ext cx="8286480" cy="178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急性型：即痢疾型。发病突然，腹痛、腹泻、黏液血便；可有并发症，也可累及肠外组织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慢性型：周期性腹泻，或腹泻、便秘交替，常排出黏液但无脓血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四、流行与防治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流行</a:t>
            </a:r>
            <a:r>
              <a:rPr b="1" lang="zh-CN" sz="3200" spc="-1" strike="noStrike">
                <a:solidFill>
                  <a:srgbClr val="2f2f2f"/>
                </a:solidFill>
                <a:latin typeface="宋体"/>
                <a:ea typeface="宋体"/>
              </a:rPr>
              <a:t>  </a:t>
            </a:r>
            <a:endParaRPr b="0" lang="en-US" sz="32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755640" y="1196640"/>
            <a:ext cx="8229600" cy="36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 algn="just">
              <a:lnSpc>
                <a:spcPts val="4198"/>
              </a:lnSpc>
              <a:spcBef>
                <a:spcPts val="1199"/>
              </a:spcBef>
              <a:buClr>
                <a:srgbClr val="2f2f2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世界性分布。在我国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个省、自治区有散在病例报道。宿主广，已知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3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多种动物可感染此虫，猪为重要的传染源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608040" indent="-608040" algn="just">
              <a:lnSpc>
                <a:spcPts val="4198"/>
              </a:lnSpc>
              <a:spcBef>
                <a:spcPts val="1199"/>
              </a:spcBef>
              <a:buClr>
                <a:srgbClr val="2f2f2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粪便污染及蝇的机械携带包嚢是重要的传播方式，主要是包嚢污染的食物和饮水经口感染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608040" indent="-608040"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防治原则同溶组织内阿米巴，注意个人和饮食卫生，加强猪粪便的管理，保护水源，用甲硝唑治疗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608040" indent="-608040"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6T13:12:27Z</dcterms:created>
  <dc:creator>shi</dc:creator>
  <dc:description/>
  <dc:language>en-US</dc:language>
  <cp:lastModifiedBy>hzg</cp:lastModifiedBy>
  <dcterms:modified xsi:type="dcterms:W3CDTF">2015-10-05T12:54:03Z</dcterms:modified>
  <cp:revision>27</cp:revision>
  <dc:subject/>
  <dc:title>结肠小袋纤毛虫 Balantidium coli</dc:title>
</cp:coreProperties>
</file>